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99E-2B28-4488-A0B8-35C00EEF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EA0-CA2C-4934-91EF-29DAA7E6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C26F-57A3-43A4-9C56-953AFB22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D64-16F9-4DF9-B035-BFA60FCF6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5673-C353-41A5-9849-E94535472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246A2-0224-4F3F-B3B0-09975FF1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6C78-6807-4631-88EA-0392B5AA5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0DE47-E835-4222-9027-6EBE3135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89DC-ABDE-4C4E-A709-95650208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005B-DB08-48E8-A052-E5729981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F94A-A1B7-48AA-8E07-1734818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34CB-79F5-4814-AFE1-9265CB1D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43CE-D6CF-4B66-BC7E-A837CD05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D11-FD62-4088-8B5A-16FDD5DD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DCB34-4F1A-4921-8699-4E911EC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0670-A5BC-48F3-BD0E-98E7AEA41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C1B86-D540-4403-9432-92AC78DC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C9CD-E50B-4DC6-96FB-58D3640C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9CD8-FBAE-4CA5-B4EC-6DF762A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25B-02F1-421D-BD23-886E41D1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24A-504B-4970-A2C3-71095AE1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804-425D-4F91-BF92-96A0D5AB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5677-148F-4C5B-95A0-DDE243E0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2F53-F6D9-4C70-98C2-43412369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2D23-6092-4DEC-9119-B7ABF97F5A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2C69-A55C-4A0B-B86E-043AB3904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Welcome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53352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lease pick up a binder and a differentiation book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Sign for the boo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pdate your Nspire software and download files for tod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nd eat . 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pered by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in groups of six or sev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ee group ro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oal:  Determine the average height of the members of your group using only the materials provid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measurement, one c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calculations (no mental mat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ampered by Height (INB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right s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out your group’s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 the left sid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on your group’s sol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es this activity help you understand the concept of aver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would this activity benefit your student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Just a Momen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d Probl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Math/Science Breakout Sess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chool Science:  H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School Science: 20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 School Math: 2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ddle School Math: 2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Return for lunch at 11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I-Nspire: Differentiation at it’s Best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on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bies:  Scavenger Hu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ope:  Man on th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dratic Equations:  Beach Ball Bo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one to work throug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Option: Use projector and software as a group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sson Planning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a 5E Lesson aligned with 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6w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questions at different levels of Bloom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aluate yoursel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mail or turn in a hard copy of your lesson before you leave to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flections on the Da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ke a moment to reflect on the worksho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rite your thoughts, questions, ideas, ahas and plans in your interactive noteboo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de with a partn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d to what is written: ideas, thoughts, questions, ah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Evaluation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e you Tuesday, January 27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:30 – 6: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gan 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5:43:33Z</dcterms:created>
  <dc:creator>HISD</dc:creator>
  <dc:description/>
  <dc:language>en-US</dc:language>
  <cp:lastModifiedBy>HISD</cp:lastModifiedBy>
  <dcterms:modified xsi:type="dcterms:W3CDTF">2009-01-14T21:22:22Z</dcterms:modified>
  <cp:revision>3</cp:revision>
  <dc:subject/>
  <dc:title>Slide 1</dc:title>
</cp:coreProperties>
</file>